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0563"/>
        <c:axId val="81155091"/>
      </c:barChart>
      <c:catAx>
        <c:axId val="15160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55091"/>
        <c:crosses val="autoZero"/>
        <c:auto val="1"/>
        <c:lblAlgn val="ctr"/>
        <c:lblOffset val="100"/>
        <c:noMultiLvlLbl val="0"/>
      </c:catAx>
      <c:valAx>
        <c:axId val="81155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0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96C-7B08-4A7D-94DE-32009582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EBA-0923-41DE-8699-2D4DB21F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B20-55B1-4DD9-AECE-2FA87110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1D4-76C7-491F-AD98-EB01E569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8F9-E6AC-422F-8C72-FEFD8C4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677-CB88-41E8-A869-56F90A9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4DC-FD57-48BE-8AA5-F97B6DCE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963-8420-4509-A27B-7CD5B3C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EA-F93D-48F5-A6D7-B535E3E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139-26A9-4FB9-B672-36829C6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0BE-622E-44AA-B921-0F4B9D1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47F-3564-4734-9D20-9AD1858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F706A-1841-4404-AED7-5C4A8E57CC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