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95558"/>
        <c:axId val="48500016"/>
      </c:barChart>
      <c:catAx>
        <c:axId val="93195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00016"/>
        <c:crosses val="autoZero"/>
        <c:auto val="1"/>
        <c:lblAlgn val="ctr"/>
        <c:lblOffset val="100"/>
        <c:noMultiLvlLbl val="0"/>
      </c:catAx>
      <c:valAx>
        <c:axId val="48500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95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B63-1D30-4BB3-9C32-F97F57D3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7D1-4F20-4CC1-A84F-2EC10711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549-3C6A-4E72-96FC-535016C1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D62-F98E-46AE-B192-EAC0CE30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BF5-35CF-4B4F-9801-3F77B0F2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23A-9508-4CF7-8F6E-8BB7FC8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270-E77A-4576-801C-9D192805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209-CD76-4404-8196-B47503CA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A9A-5FF7-4D6B-B9F6-B7CF4FBF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E29-B94A-4C31-BE2E-BE73E38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D86-3C8C-4F37-B062-C962B57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B26-FFB1-4722-B826-1044167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F5133-E419-4F36-B022-50CE4E9281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